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E83-DEE5-4916-9FC7-8B3A607B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7E5-E690-4B1C-9601-88F3517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FD1-7B86-47B3-80B2-372936C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DC1-2FAB-4407-9BE5-EFB829D1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E9D-DCCE-4C29-8A64-9CD7D02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6A5-6321-420D-814B-077B157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09A-6DAC-4CD2-9C05-5B2F6A4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A1C-FE7E-4872-89F9-2016780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7A0-43C0-4539-9867-8277719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D70-D697-4577-B810-B7312E5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639-50F8-4FF8-BA95-D35D117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895-15E8-4390-B543-F85E9BE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654-3F6C-4B5B-89D8-12371C682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nus.edu.sg/~cs3243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ATIONS OF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2003/2004 Semes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: 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tity that perceives and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rse is about designing ration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ly, an agent is a function from percept histories to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iven class of environments and tasks, we seek the agent (or class of agents) with the bes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at: computational limitations make perfect rationality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b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iven mach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 pre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, methods of reasoning, mind as phys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oundations of learning, langua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presentation and proof algorith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, (un)decidability, (in)tractabil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, decis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substrate for ment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a of perception and motor contro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fast compu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ystems that maximize an obj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ver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representation,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idged history of 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3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Culloch &amp; Pitts: Boolean circuit model of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's "Computing Machinery and Intelligen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tmouth meeting: "Artificial Intelligence"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2—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, Ma, no hand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I programs, including Samuel's chec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, Newell &amp; Simon's Logic Theori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rnter's Geometry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inson's complete algorithm for logic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6—7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discovers computational complex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 research almost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—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development of knowledge-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n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s return to pop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ence of intelligent 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Blue defeated the reigning world chess champion Garry Kasparov in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a mathematical conjecture (Robbins conjecture) unsolved for dec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nds across America (driving autonomously 98% of the time from Pittsburgh to San Dieg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991 Gulf War, US forces deployed an AI logistics planning and scheduling program that involved up to 50,000 vehicles, cargo, and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's on-board autonomous planning program controlled the scheduling of operations for a spacec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s crossword puzzles better than most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home pag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mp.nus.edu.sg/~cs32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LE for schedule, lecture notes, tutorials, assignment, grading, office hou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: S.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Intelligence: A Modern Appro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r: Min-Yen Kan (S15 05-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: Class participation (10%), Programming assignment (15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20%), Final exam (55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 includes participation in both lectures and tutorials (attendance, asking and answering questions, presenting solutions to tutorial question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attendance at every lecture and tutorial will be taken and constitutes part of the class participation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in class, 1 hr) and final exam (2 hrs) are both open-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Agents (chapters 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(chapters 3,4,5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(chapters 7,8,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chapters 11,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(chapters 13,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(chapters 18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nguage Processing (chapter 22,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of AI fall into four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advocates "acting rationall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743200"/>
          <a:ext cx="7086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humanly: Tur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 (1950) "Computing machinery and intelligence"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Can machines think?"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Can machines behave intelligently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that by 2000, a machine might have a 30% chance of fooling a lay person for 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ed all major arguments against AI in following 5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major components of AI: knowledge, reasoning, language understanding,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948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humanly: cognitive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 "cognitive revolution": information-processing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cientific theories of internal activities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How to validate? Requ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redicting and testing behavior of human subjects (top-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) Direct identification from neurological data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roaches (roughly, Cognitive Science and Cognitive Neurosci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distinct from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: "laws of though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: what are correct arguments/thought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Greek schools developed various form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les of der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oughts; may or may not have proceeded to the idea of mech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ine through mathematics and philosophy to modern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lligent behavior is mediated by logical deli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urpose of thinking? What thoughts should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rationally: rational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havior: doing the righ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hing: that which is expected to maximize goal achievement, given the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't necessarily involve thinking – e.g., blinking reflex – but  thinking should be in the service of ration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04:52Z</dcterms:created>
  <dc:creator>Min-Yen Kan</dc:creator>
  <dc:description/>
  <dc:language>en-US</dc:language>
  <cp:lastModifiedBy>Min-Yen Kan</cp:lastModifiedBy>
  <dcterms:modified xsi:type="dcterms:W3CDTF">2003-12-17T02:52:26Z</dcterms:modified>
  <cp:revision>4</cp:revision>
  <dc:subject/>
  <dc:title>Slide 1</dc:title>
</cp:coreProperties>
</file>