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286-1A7D-4177-8D28-5F619AE6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441-A42D-4506-B9C7-558E15F1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169-C7B6-411F-84B0-D29B9841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4D4-DF54-41C0-A63E-069B122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1C2-B689-4438-A2DA-59665FF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B05-C56E-4BF8-BAB7-DB14CB5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50F-C0CB-446D-9791-A97D40E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AFC-19F3-4EB3-BD3D-2236CED9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1D6-EBC6-4CC9-8BA3-FE9BB3D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A2D-1370-4880-BE31-249302B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457-CBF6-4EC8-BC5F-E8F9B42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C94-6830-42DB-964D-A788B1A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2E0-05DA-4258-B69A-AE68E779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mal languages for representing information such that conclusions can be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sentences in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"meaning" of sent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defin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entence in a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language of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a sentence; x2+y &gt; {} is no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ff the number x+2 is no less than the numbe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n a world where x = 7,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false in a world where x = 0, y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one th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llows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ails sentence α if and only if α is true in all world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KB containing “the Giants won” and “the Reds won” entails “Either the Giants won or the Reds w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x+y = 4 entails  4 = x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 is a relationship between sentences (i.e.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is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ans typically think in terms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 formally structured worlds with respect to which truth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s a model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ntence α if α is tru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et of all models of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KB ╞ α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K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ants won and R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 α = Giant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fter detecting nothing in [1,1], moving right, breeze in [2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possible model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only 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oolean choic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 possib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bas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in general - models and entai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al (Boolean)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, validity, 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rules and theorem 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"[1,2] is safe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╞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"[2,2] is safe"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╞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563832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= sentence α can b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ced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ound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plete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: we will define a logic (first-order logic) which is expressive enough to say almost anything of interest, and for which there exists a sound and complete inferen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the procedure will answer any question whose answer follows from what is known by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the simplest logic –  illustrates basic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ition symbol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ar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 is a sente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el specifies true/false for each proposition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symbols, 8 possible models, can be enum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for evaluating truth with respect to a mod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fal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als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ursive process evaluates an arbitrary sentence,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7502" t="30211" r="7811" b="50002"/>
          <a:stretch/>
        </p:blipFill>
        <p:spPr>
          <a:xfrm>
            <a:off x="609480" y="1371600"/>
            <a:ext cx="769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pit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breeze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its cause breezes in adjacent squar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7502" t="30211" r="7811" b="32293"/>
          <a:stretch/>
        </p:blipFill>
        <p:spPr>
          <a:xfrm>
            <a:off x="762120" y="1371600"/>
            <a:ext cx="7543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= set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t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lar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building an agent (or other syste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hat it nee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t c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what to do - answers should follow from the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an be viewed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what they know, regardless of how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ata structures in KB and algorithms that manipulat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553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-first enumeration of all models is sound and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s, tim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ac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143000" y="19810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ntences ar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ally 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iff true in same models: 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 iff α╞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143000" y="2514600"/>
            <a:ext cx="71629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and satisf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is connected to inference via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duction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α) is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ability is connected to inference via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) is unsatis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methods divide into (roughly) two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lication of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itimate (sound) generation of new sentences from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sequence of inference rule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inference rules as operators in a standard sea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search in model space (sound but in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min-conflicts-like hill-climb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ve Normal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j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erence rule (for CN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mplementary lit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sound and comple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posi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188928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5812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resolution inference ru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to C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(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wards using de Morgan's rules and double-n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pply distributivity law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la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contradiction, i.e., sh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09480" y="22860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1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rn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tri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r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clau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 symbol; 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junction of symbo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s Pon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Horn Form): complete for Horn K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lgorithms are very natural and ru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886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mple knowledge-based a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ust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states, a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new per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nal representation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hidden propertie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appropriat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1253" t="30211" r="0" b="36462"/>
          <a:stretch/>
        </p:blipFill>
        <p:spPr>
          <a:xfrm>
            <a:off x="685800" y="1447920"/>
            <a:ext cx="76201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fire any rule whose premises are satisfi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its conclusion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til quer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89548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chaining is sound and complete for Horn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1523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PEAS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+1000, death 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per step, -10 for us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wumpus are s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pit are bree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tter iff gold is in the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kills wumpus if you are fac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uses up the only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bing picks up gold if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ing drops the gold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nch, Breeze, Glitter, Bump, S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ft turn, Right turn, Forward, Grab, Release, Sh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eache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o new atomic sentences ar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inal state as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ing true/false to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lause in the origi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work backwards from the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B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nown already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by BC all premises of some rule co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oops: check if new subgoal is already on the go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repeated work: check if new sub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been proved tru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Full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on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outcomes exactly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Epi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sequential at the level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es – Wumpus and Pits do not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ingle-ag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Wumpus is essentially a natural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vs.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matic, unconscious proces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bject recognition, routin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do lots of work that is irrelevant to th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al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ppropriate for problem-solv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here are my keys? How do I get into a PhD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C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inear in size of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ropositional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amilies of efficient algorithms for propositional i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acktracking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algorithm (Davis, Putnam, Logemann, Love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an input propositional logic sentence (in CNF) is satisf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over truth table enum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lause is true if any literal is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ntence is false if any clause is fa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ymbol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e symbol: always appears with the same "sign" in all clau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In the three clauses (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,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, (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), A and B are pure, C is imp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a pure symbol literal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claus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clause: only one literal in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literal in a unit clause must be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762120" y="13716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762120" y="1523880"/>
            <a:ext cx="75438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random 3-CNF sentences.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cl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s seem to cluster n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.3 (critical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runtime for 100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3-CNF sente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-based agents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umpus-world agent using propositional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distinct proposition symbols, 15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457200" y="304920"/>
            <a:ext cx="8229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 contains "physics" sentences for every singl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locatio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ngR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oliferation of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 limitation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732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rive new information and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s of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mal structure of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ntences wr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cessary truth of one sentence give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ing sentences from other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produce only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can produce all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al logic lacks express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08:22Z</dcterms:created>
  <dc:creator>Min-Yen Kan</dc:creator>
  <dc:description/>
  <dc:language>en-US</dc:language>
  <cp:lastModifiedBy>Min-Yen Kan</cp:lastModifiedBy>
  <dcterms:modified xsi:type="dcterms:W3CDTF">2003-12-18T04:12:02Z</dcterms:modified>
  <cp:revision>6</cp:revision>
  <dc:subject/>
  <dc:title>Logical Agents</dc:title>
</cp:coreProperties>
</file>