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9B6D-88EC-4676-90F0-6CE53BEA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8FE4-8C0D-47A0-B1A6-DCAAAC1E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4C1F-04CF-483E-8078-85E5D5233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3B9E-BCCE-402A-A772-06B4A0B2D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7B71-AF5C-4835-8EC2-7A2F68A7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2E06-53FD-4A1F-98CF-7DDFFE74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E522-E54B-461D-ADD0-89D49359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176A-1BEC-4970-A109-C6969CF1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5F47-3DA4-4078-813C-628C5D6D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6C01-83F7-4339-A930-4E4B680B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82A1-7FAD-4ACE-AC34-6A9082C3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2242-7F6C-48E2-9203-F13FF925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C48A-CE4E-4830-9B09-5BDF5F270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from Observ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1 –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ctive learning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/adju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gre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raining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grees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all exam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curve fit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09680" y="3200400"/>
            <a:ext cx="342900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3429000" cy="29541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ctive learning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/adju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gre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raining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grees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all exam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curve fit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3429000" cy="29541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ctive learning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/adju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gre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raining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grees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all exam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curve fit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kham’s razor: prefer the simplest hypothesis consistent with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decision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decide whether to wait for a table at a restaurant, based on the following attribu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e: is there an alternative restaurant nearb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: is there a comfortable bar area to wait 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/Sat: is today Friday or Saturd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ngry: are we hung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rons: number of people in the restaurant (None, Some, F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: price range ($, $$, $$$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ning: is it raining outs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rvation: have we made a reserv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: kind of restaurant (French, Italian, Thai, Burg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Estimate: estimated waiting time (0-10, 10-30, 30-60, &gt;6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ribute-based repres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described by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ttribute valu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oolean, discrete, continuo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situations where I will/won't wait for a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lassifi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examples is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si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) or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ga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53906" t="29168" r="9766" b="19791"/>
          <a:stretch/>
        </p:blipFill>
        <p:spPr>
          <a:xfrm>
            <a:off x="1447920" y="2362320"/>
            <a:ext cx="609588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791320" cy="41562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sion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possible representation for hypoth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here is the “true” tree for deciding whether to wa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ressiv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 trees can express any function of the input attribu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for Boolean functions, truth table r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 to lea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vially, there is a consistent decision tree for any training set with one path to leaf for each example (unl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ndeterministic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but it probably won't generalize to new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fer to find mor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mpa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cision t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579132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How many distinct decision trees with </a:t>
            </a:r>
            <a:r>
              <a:rPr b="0" i="1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n</a:t>
            </a: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 Boolean attribu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number of Boolea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number of distinct truth tables wit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ws =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60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with 6 Boolean attributes, there are 18,446,744,073,709,551,616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How many distinct decision trees with </a:t>
            </a:r>
            <a:r>
              <a:rPr b="0" i="1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n</a:t>
            </a: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 Boolean attribu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number of Boolea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number of distinct truth tables wit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ws =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60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with 6 Boolean attributes, there are 18,446,744,073,709,551,616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How many purely conjunctive hypotheses (e.g., </a:t>
            </a:r>
            <a:r>
              <a:rPr b="0" i="1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Hungry </a:t>
            </a:r>
            <a:r>
              <a:rPr b="0" lang="en-US" sz="2000" spc="-1" strike="noStrike" u="sng">
                <a:solidFill>
                  <a:srgbClr val="cc0099"/>
                </a:solidFill>
                <a:uFillTx/>
                <a:latin typeface="Symbol"/>
                <a:ea typeface="Symbol"/>
              </a:rPr>
              <a:t></a:t>
            </a: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cc0099"/>
                </a:solidFill>
                <a:uFillTx/>
                <a:latin typeface="Symbol"/>
                <a:ea typeface="Symbol"/>
              </a:rPr>
              <a:t></a:t>
            </a:r>
            <a:r>
              <a:rPr b="0" i="1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Rain</a:t>
            </a: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attribute can be in (positive), in (negative), or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stinct conjunctive hypoth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expressive hypothesis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 chance that target function can be expr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 number of hypotheses consistent with training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get worse predi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sion tree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m: find a small tree consistent with the training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: (recursively) choose "most significant" attribute as root of (sub)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53906" t="23960" r="8985" b="27086"/>
          <a:stretch/>
        </p:blipFill>
        <p:spPr>
          <a:xfrm>
            <a:off x="838080" y="2743200"/>
            <a:ext cx="7239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ctiv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tre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ing an attrib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: a good attribute splits the examples into subsets that are (ideally) "all positive" or "all negativ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rons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better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2012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information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mplemen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oose-Attribu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DTL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Content (Entropy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(P(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… , P(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)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P(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(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training se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itive examples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gative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295280" y="4648320"/>
                <a:ext cx="64008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osen attribu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vides the training s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subse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 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Monotype Corsiv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cording to their values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tinct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Gain (IG) or reduction in entropy from the attribute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he attribute with the largest 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371600" y="2743200"/>
                <a:ext cx="57150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mainder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v</m:t>
                        </m:r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4419720"/>
                <a:ext cx="586764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G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emainder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training set, </a:t>
            </a:r>
            <a:r>
              <a:rPr b="0" i="1" lang="en-US" sz="2000" spc="-1" strike="noStrike">
                <a:solidFill>
                  <a:srgbClr val="000000"/>
                </a:solidFill>
                <a:latin typeface="Monotype Corsiva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Monotype Corsiv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6, I(6/12, 6/12) =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the attribut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t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nd others too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t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the highest IG of all attributes and so is chosen by the DTL algorithm as the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762120" y="2895480"/>
                <a:ext cx="746748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atron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[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,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1,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41</m:t>
                        </m:r>
                        <m:r>
                          <m:rPr>
                            <m:lit/>
                            <m:nor/>
                          </m:rPr>
                          <m:t xml:space="preserve"> bit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yp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[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bit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co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tree learned from the 12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antially simpler than “true” tree---a more complex hypothesis isn’t justified by small amount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403848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47920" y="3033720"/>
            <a:ext cx="5105160" cy="3571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formance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know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orems of computational/statistical learning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a new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est 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use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am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ion over example space as training s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earning cur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% correct on test set as a function of training set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needed for unknown environments, lazy desig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agent = performance element + learning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upervised learning, the aim is to find a simple hypothesis approximately consistent with training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tree learning using information ga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performance = prediction accuracy measured on test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is essential for unknown environment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, when designer lacks omni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is useful as a system construction meth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, expose the agent to reality rather than trying to write it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modifies the agent's decision mechanisms to improv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31520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e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of a learning element is affec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components of the performance element are to be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feedback is available to learn thes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representation is used for th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of feedback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pervised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rrect answers for each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supervised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rrect answers not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inforcement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ccasional re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ctive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st form: learn a function from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arge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amp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pair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find 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ypothes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rai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is is a highly simplified model of real lear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nores prior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s examples are giv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ctive learning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/adju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gre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raining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grees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all exam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curve fit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09680" y="3200400"/>
            <a:ext cx="381024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ctive learning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/adju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gre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raining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grees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all exam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curve fit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09680" y="3200400"/>
            <a:ext cx="38102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ctive learning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/adju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gre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raining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grees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all exam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curve fit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09680" y="3200400"/>
            <a:ext cx="38102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4T06:34:20Z</dcterms:created>
  <dc:creator>Min-Yen Kan</dc:creator>
  <dc:description/>
  <dc:language>en-US</dc:language>
  <cp:lastModifiedBy>Min-Yen Kan</cp:lastModifiedBy>
  <dcterms:modified xsi:type="dcterms:W3CDTF">2003-12-31T02:26:21Z</dcterms:modified>
  <cp:revision>5</cp:revision>
  <dc:subject/>
  <dc:title>Learning from Observations </dc:title>
</cp:coreProperties>
</file>