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E5E-39C1-425C-84ED-C1F7506F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F26-0CD7-4D06-9EF7-D3365023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737-6489-4840-83CF-B2FFFADE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557-B5E2-466D-8CBB-180CB2C6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5E7-2014-4154-AD97-E82E1321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75A-77BB-4FA1-9974-21535137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E45-F079-465E-9170-1EB9E7A3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CB4-FA67-4F43-9B47-A72A747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30F-BE0B-426F-9F08-ADF7C5AA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045-5ED5-4F35-B2CD-4FEEA2B5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063-995C-4972-BC77-56180719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0C0-C2B7-4B98-A343-F45FEA7F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C3BB-DE9A-428A-A30D-6030FD10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qua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at NUS is sm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ing each possible object in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speaking, equivalent to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j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tanti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KingJohn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art(KingJoh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Richard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mart(Richar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NUS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art(NU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mon mistake to av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istake: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“Everyone is at NUS and everyone is sma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ential qua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at NUS is sm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ing some possible object in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speaking, equivalent to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j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tanti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KingJohn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KingJoh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Richard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Rich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NUS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N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common mistake to av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istake: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(x,NU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if there is anyone who is not at N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qua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Loves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person who loves everyone in the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oves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in the world is loved by at least one pers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antifier d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ach can be expressed using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ikes(x,IceCrea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s(x,Ice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ikes(x,Broccoli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s(x,Brocco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under a given interpretation if and only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the sam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efini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b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= 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,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= 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m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f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m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arent(f,y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nship dom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s are 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other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's mother is one's female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,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ther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Female(m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ent(m,c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” is 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ibling(y,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doma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Set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 = {}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= {x|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{x|s} =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= {x|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(s = {y|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=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ng with FOL K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wumpus-world agent is using an FOL KB and perceives a smell and a breeze (but no glitter)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B,Percept([Smell,Breeze,None],5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B,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estAction(a,5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does the KB entail some best action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/Sho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←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stit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inding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nte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substituti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the result of plugg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.g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marter(x,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{x/Hillary,y/Bill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marter(Hillary,Bi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B,S) returns some/all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base for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,s,b Percept([s,b,Glitter],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itter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Glitter(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Action(Grab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F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and semantics of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umpus world in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engineering in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ducing hidden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,a,b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ja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[x,y],[a,b]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,b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[x+1,y], [x-1,y],[x,y+1],[x,y-1]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squ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gent,s,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eze(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ezy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s are breezy near a p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gno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---infer cause from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Breezy(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\Exi{r} Adjacent(r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t(r)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u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---infer effect from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Pit(r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djacent(r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reezy(s)$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engineering in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the relevan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vocabulary of predicates, functions, and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general knowledge about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a description of the specific problem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 queries to the inference procedure and get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 the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bit full 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4674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ircuit actually add properly? (circuit ver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the relevan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wires and gates; Types of gates (AND, OR, XOR,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levant: size, shape, color, cost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general knowledge of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Signal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Signal(t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t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Signal(In(n,g)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Signal(In(n,g)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X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g)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2,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NO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 the specific problem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Out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3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Out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3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e queries to the inferenc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ossible sets of values of all the terminals for the adder circu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C_1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2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3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2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 the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mitted assertions like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order 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nd relations are semantic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 constants, functions, predicates, equality,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expressive power: sufficient to define wumpus wor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 and cons of propositional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allows partial/disjunctive/negat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most data structures and data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osi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erived from mean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in 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text-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natural language, where meaning depends on con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has very limited expressiv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natural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cannot say "pits cause breezes in adjacent square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by writing one sentence for each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as propositional logic assumes the world contain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order logic (like natural language) assumes the world co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ople, houses, numbers, colors, baseball games, war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d, round, prime, brother of, bigger than, part of, comes betwee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n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ather of, best friend, one more than, plu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 of FOL: Basic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John, 2, NUS,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, &gt;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rt, LeftLegOf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 y, a, b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ier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entence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dic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other(KingJohn,RichardTheLionheart) &gt; (Length(LeftLegOf(Richard)), Length(LeftLegOf(KingJohn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sentences are made from atomic sentences using conn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bling(KingJohn,Richar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ibling(Richard,KingJoh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(1,2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(1,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(1,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in 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s are true with respect to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ontains objects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relations amo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tion specifies referen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di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ction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tomic sent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dicate(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...,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bjec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ed to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...,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in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red to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for FOL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053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6:35:44Z</dcterms:created>
  <dc:creator>Min-Yen Kan</dc:creator>
  <dc:description/>
  <dc:language>en-US</dc:language>
  <cp:lastModifiedBy>Min-Yen Kan</cp:lastModifiedBy>
  <dcterms:modified xsi:type="dcterms:W3CDTF">2004-01-02T09:27:55Z</dcterms:modified>
  <cp:revision>4</cp:revision>
  <dc:subject/>
  <dc:title>First-Order Logic</dc:title>
</cp:coreProperties>
</file>