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44A-07C1-4A92-941B-9745429F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324-0D32-4AD6-BAFA-BF84B1B1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C27-7D0A-4D9B-8F19-A1EACC34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247-7D95-4AA2-BFDF-3E25AD1C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C21-E6FD-4373-83FB-A26D76F9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D91-CD9D-4DE2-A4FC-2CDE2C78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6A7-264B-4F30-AE18-08FCB67B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EE0-A214-43A5-9224-45E7B3F7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7D7-4E81-4232-9514-653B997D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FB3-8BC3-43BC-8F57-B4427DF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CD3-ACBE-495E-A110-336ECB24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5EC-993F-4FED-8215-5695E78A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F0ED-1E34-4CB1-B50C-AC2AD9C53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ed search algorith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greedy 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– can get stuck in loops, e.g.,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Tim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a good heuristic can give dramatic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keeps all nod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avoid expanding paths that are alread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= g(n) + 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ost so far to r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stimated cos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estimated total cost of path thr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 Section 1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 memory-bounded heuristic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urist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for every no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to reach the goal stat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missible heurist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ver overestim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st to reach the goal, i.e., it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ver overestimates the actual road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dmissible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EE-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proo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some sub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en generated and is in the fringe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unexpanded node in the fringe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 a shortest path to an 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= g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gt; g(G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ubopti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)   = g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&gt; f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505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proo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some sub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en generated and is in the fringe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unexpanded node in the fringe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 a shortest path to an 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f(G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^*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h is admi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n) + 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(n) +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&gt; f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never select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505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t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euristic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sis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for every no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very success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ed by any a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(n,a,n') + h(n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istent,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'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(n') + h(n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(n) + c(n,a,n') + h(n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n) + h(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n-decreasing along any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istent, 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-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962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ands nodes in order of increa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lly adds "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tours" of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ll nod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=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56386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A$^*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s (unless there are infinitely many nodes with 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f(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Tim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on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eps all nod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or the 8-puzz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misplaced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otal Manhattan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no. of squares from desired location of each t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or the 8-puzz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misplaced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otal Manhattan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no. of squares from desired location of each t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+1+2+2+2+3+3+2 = 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th admi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min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etter for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search costs (average number of nodes expand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=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= 3,644,035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227 no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3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=2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= too many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39,135 no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,641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xe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lem with fewer restrictions on the actions is called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laxe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 of an optimal solution to a relaxed problem is an admissible heuristic for the origin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ules of the 8-puzzle are relaxed so that a tile can mov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short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ules are relaxed so that a tile can move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 adjacent squar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short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first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u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ed annealing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beam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earch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optimization problems,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goal is irrelevant; the goal state itself is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space = set of "complete"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onfiguration satisfying constraints, e.g., n-qu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we can u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cal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single "current" state, try to impro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que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ens o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ard with no two queens on the same row, column, or diag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7467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Like climbing Everest in thick fog with amnesi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7970" t="27086" r="13282" b="36462"/>
          <a:stretch/>
        </p:blipFill>
        <p:spPr>
          <a:xfrm>
            <a:off x="838080" y="2743200"/>
            <a:ext cx="76201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depending on initial state, can get stuck in local max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9343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ll-climbing search: 8-queen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 of pairs of queens that are attacking each other, either directly or indirec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=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abov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ll-climbing search: 8-queen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cal minimum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ed anneal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escape local maxima by allowing some "bad" moves bu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dually de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7970" t="31250" r="13282" b="17709"/>
          <a:stretch/>
        </p:blipFill>
        <p:spPr>
          <a:xfrm>
            <a:off x="1371600" y="3048120"/>
            <a:ext cx="62485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imulated anneal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prove: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s slowly enough, then simulated annealing search will find a global optimum with probability approaching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ly used in VLSI layout, airline scheduling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eam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rack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rather than jus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ly genera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iteration, all the successors of 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are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one is a goal state, stop; else selec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successors from the complete list and rep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ccessor state is generated by combining two pa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ly generated state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 is represented as a string over a finite alphabet (often a string of 0s and 1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functio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tness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Higher values for better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the next generation of states by selection, crossover, and 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: Tree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input{\file{algorithms}{tree-search-short-algorithm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strategy is defined by pick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der of node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ness function: number of non-attacking pairs of queens (min = 0, max = 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/2 = 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/(24+23+20+11) = 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/(24+23+20+11) = 29%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71440" y="2433600"/>
            <a:ext cx="68011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us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ion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"desirability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most desirable unexpanded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the nodes in fringe in decreasing order of desi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ia with step costs in 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2296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= h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estimate of cos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traight-line distance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ucha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dy best-first search expands the node t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closest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4:31:51Z</dcterms:created>
  <dc:creator>Min-Yen Kan</dc:creator>
  <dc:description/>
  <dc:language>en-US</dc:language>
  <cp:lastModifiedBy>Min-Yen Kan</cp:lastModifiedBy>
  <dcterms:modified xsi:type="dcterms:W3CDTF">2003-12-17T05:12:36Z</dcterms:modified>
  <cp:revision>5</cp:revision>
  <dc:subject/>
  <dc:title>Informed search algorithms </dc:title>
</cp:coreProperties>
</file>