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9CF-D885-49E4-BBC3-28D57ABD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6D0-9FD5-4FE2-902F-BC61A1D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CBE-292F-4FD5-AACB-6245E9B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778-E86F-46E8-845C-C7179DDF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4D3-271B-4A67-9BB5-A73F60FC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7EC-1A84-4AEB-8934-9DE80FB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DF2-20D8-4FFD-BBA8-0851B4A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80A-174B-4594-BB9D-E498B9F0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3CE-EC61-41A0-8941-921FB08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BFF-2F58-4ACA-B684-3D8F2DF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5AD-356A-478A-B258-F2104D1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EF6-A1CC-48E3-86D8-42AD48F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DF11-7138-4CED-A546-59EEEE0B9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con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true) = 0.1 and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unny) = 0.72 correspond to belief prior to arrival of any (new)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values for all possible assign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&lt;0.72,0.1,0.08,0.1&gt;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rmaliz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.e., sums to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set of random variables gives the probability of every atomic event on those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a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atrix of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question about a domain can be answered by the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e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iven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ation for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2-element vector of 2-element 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know more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given, the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vidence may be irrelevant, allowing simplification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 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ind of inference, sanctioned by domain knowledge, is cru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conditional prob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| b) = 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/ P(b) if  P(b)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ct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an alternative for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= P(a | b) P(b) = P(b | a) 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l version holds for whole distributions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 as a set of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quat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mul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in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by successive application of product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81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compute 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0.016+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8 + 0.012 + 0.016 + 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257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minator can be viewed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α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,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[&lt;0.108,0.016&gt; + &lt;0.012,0.064&gt;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&lt;0.12,0.08&gt; = &lt;0.6,0.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dea: compute distribution on query variable by fixing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umming ov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,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we are inter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terior joint distribution of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specific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required summation of joint entries is done by summing out the hidden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s in the summation are joint entries bec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gether exhaust the set of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-case tim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largest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tore the join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find the numb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dependent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|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|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 B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,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ntries reduced to 12;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biased coi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independence powerful but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istry is a large field with hundreds of variables, none of which are independent.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and Bayes'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, Cavity, C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= 7 independent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have a cavity, the probability that the probe catches in it doesn't depend on whether I have a tooth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independence holds if I haven't got a ca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ditionally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full joint distribution using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2 + 2 + 1 = 5 independe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ost cases, the use of conditional independence reduces the size of the representation of the joint distribution from exponential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linear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al independence is our most basic and robust form of knowledge about uncertain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 P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= P(a | b) P(b) = P(b | a) 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yes' ru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a | b) = P(b | a) P(a) /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distribu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|X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= 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assess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from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ause|Effect) = P(Effect|Cause) P(Cause) / P(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eningiti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tiff ne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|s) = P(s|m) P(m) / P(s) = 0.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1 / 0.1 = 0.0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posterior probability of meningitis still very sma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 and 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 | toothach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ïve Ba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Ca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parameter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4848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is a rigorous formalism for uncert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probability of eve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omic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answered by summing over atom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ntrivial domains, we must find a way to reduce the j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leave for airport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utes before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t me there on ti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 observability (road state, other drivers' plan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sy sensors (traffic re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ertainty in action outcomes (flat tir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nse complexity of modeling and predic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 purely logical approach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s falsehood: 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get me there on time”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s to conclusions that are too weak for decision mak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get me there on time if there's no accident on the bridge and it doesn't rain and my tires remain intact etc et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ght reasonably be said to get me there on time but I'd have to stay overnight in the airport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for handling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monot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y car does not have a flat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 unless contradicted by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What assumptions are reasonable? How to handle contradi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les with fudge fa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ther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rinkler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Problems with combination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gent's degree of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available evi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get me there on time with probability 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sser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z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ilure to enumerate exceptions, qualif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gno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ck of relevant facts, initial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relate propositions to agent's own stat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) = 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rtions ab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propositions change with new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, 5 a.m.) =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decisions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believ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tion to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m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issing flight vs. time spent wait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ty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represent and inf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sion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bability theory + utility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elemen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ndom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ropositional logic: possible worlds defined by assignment of values to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o I have a cavity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 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nny,rainy,cloudy,sn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values must be exhaustive and mutually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proposition constructed by assignment of a value 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propositions formed from elementary propositions and standard logical connectives 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= sunn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variable: e.g., Weather = sunny, Cavity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breviated as 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ic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cation of the state of the world about which the agent is 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the world consists of only two Boolean variab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are 4 distinct atomic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events are mutually exclusive and exhau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proposi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 and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4:23:21Z</dcterms:created>
  <dc:creator>Min-Yen Kan</dc:creator>
  <dc:description/>
  <dc:language>en-US</dc:language>
  <cp:lastModifiedBy>Min-Yen Kan</cp:lastModifiedBy>
  <dcterms:modified xsi:type="dcterms:W3CDTF">2003-12-18T05:29:09Z</dcterms:modified>
  <cp:revision>8</cp:revision>
  <dc:subject/>
  <dc:title>Uncertainty</dc:title>
</cp:coreProperties>
</file>