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C07-F307-4967-BDD2-7B6493B5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E44-7325-4696-9731-68233198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16C-B130-41E4-ABC1-60F8EC5E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4E4-0922-4C0C-B031-D970E790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63B1-D4CA-439A-B863-E1FBE517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B6C8-7B6A-4F63-B2A0-2B8D021F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6F7D-0EA4-48C1-B602-A05A552E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7FCF-826E-45FD-96DC-EB4514BA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F3D0-ECDA-412E-A6C9-3029F1DE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3483-64E6-4AD5-AB7A-EA32A3F1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60C1-0391-401D-AFDA-B5F29626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6A3-AC20-4A72-8E39-3128CFC9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E957-C7C6-4597-BAE2-018D93F4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0DEB-EC76-4174-857B-5D094986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4D3C-74A5-426A-A992-8BAC40BD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FE44-5E32-407F-848D-5CE1F552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537D-3526-4EA0-8723-70E05293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F73-9F4A-44D9-873C-90890FAF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F11-4ACD-453C-AD00-34E32C76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08B-FCD6-47D0-A046-4C8FC84D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2AE-1B4A-430F-B28C-7E47F624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65B-C5E1-4257-95FD-55A87E5F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E00-F146-4DF5-96EE-E2C69702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384-6504-46D8-9F4F-559BDDEC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335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558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558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827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255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160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4776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6611-A422-4797-80FB-C66F386840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905120"/>
            <a:ext cx="9009000" cy="1052280"/>
            <a:chOff x="0" y="19051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012760"/>
              <a:ext cx="711360" cy="474480"/>
              <a:chOff x="290520" y="20127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012760"/>
                <a:ext cx="43740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012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435040"/>
              <a:ext cx="737640" cy="474480"/>
              <a:chOff x="414360" y="24350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435040"/>
                <a:ext cx="421560" cy="47448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435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361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905120"/>
              <a:ext cx="31680" cy="1052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726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AF63-F9F2-4352-9172-463A2C1DB15B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olving problems by search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C516-C551-44E1-9E19-D80DE567365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ensorles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,2,3,4,5,6,7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es to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,4,6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Suck,Left,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Conting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deterministic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u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ty a clean carp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ally observable: location, dirt at current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[L, Clean]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.e., start in #5 or #7</a:t>
            </a:r>
            <a:br>
              <a:rPr sz="20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irt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168-B330-4BF2-8FB1-FD23ED8749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Single-state problem formula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fined by four item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itial stat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"at Arad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c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uccessor 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(x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set of action–state pai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(Arad)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&lt;Arad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Zerind, Zerind&gt;, …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oal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an b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xplic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"at Bucharest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mplic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mate(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h c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dditiv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sum of distances, number of actions executed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(x,a,y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</a:t>
            </a:r>
            <a:r>
              <a:rPr b="0" lang="en-US" sz="1800" spc="-1" strike="noStrike">
                <a:solidFill>
                  <a:srgbClr val="4b4eb5"/>
                </a:solidFill>
                <a:latin typeface="Tahoma"/>
              </a:rPr>
              <a:t>step co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assumed to b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≥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equence of actions leading from the initial state to a goal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C33-A7A1-4161-9C98-8FF7E6FF19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electing a state spac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 is absurdly comple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space must b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bstract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problem sol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tract) state = set of real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tract) action = complex combination of real 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"Ara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Zerind" represents a complex set of possible routes, detours, rest stops, et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guaranteed realizability, 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al state "in Arad“ must get to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al state "in Zerind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tract) solution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of real paths that are solutions in the real wor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abstract action should be "easier" than the original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9CB-FA3B-4B67-AF07-468221B082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Vacuum world state space grap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056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4AC-E480-48D8-B1A8-28F5F44A04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Vacuum world state space grap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er dirt and robot lo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irt at all lo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per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056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27D-D2B0-4257-B810-210105CF6C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The 8-puzz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257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448-94A7-4938-ADD6-D68A089848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The 8-puzz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s of ti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blank left, right, up, dow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goal state (gi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er 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ote: optimal solu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uzzle family is NP-har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257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A29-CCA6-4428-8AC0-7376B640FD2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botic assembl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eal-valued coordinates of robot joint angles parts of the object to be assem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ntinuous motions of robot j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mplete 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ime to exec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80068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811-BB63-442B-B210-44BE82F13F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algorithm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line, simulated exploration of state space by generating successors of already-explored states (a.k.a.~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a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14844" t="37501" r="3127" b="28124"/>
          <a:stretch/>
        </p:blipFill>
        <p:spPr>
          <a:xfrm>
            <a:off x="609480" y="3429000"/>
            <a:ext cx="80010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438-DF85-4341-90FF-A55B3F33B73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705640" cy="160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FFC5-C893-476E-B02F-E7C6F893742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-solving ag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for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search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6B8-F815-48EF-8CA4-CBF218D0A6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0200" y="1671480"/>
            <a:ext cx="6986520" cy="17240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7F0-F72F-49B4-90F5-7AF0572A1C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30200" y="1671480"/>
            <a:ext cx="6986520" cy="17240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D66D-AFAD-46E3-9051-42ED982EE8E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Implementation: general tree search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14844" t="18753" r="3127" b="9376"/>
          <a:stretch/>
        </p:blipFill>
        <p:spPr>
          <a:xfrm>
            <a:off x="990720" y="1600200"/>
            <a:ext cx="731520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8CF-90F6-4FDA-8189-B0A00FEFD54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Implementation: states vs. nodes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(representation of) a physical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data structure constituting part of a search tree include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arent 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ath co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creates new nodes, filling in the various fields and us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ccessorF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problem to create the corresponding st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4981680" cy="21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91C-83F0-4F30-BA74-43CDD47A29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earch strategi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arch strategy is defined by picking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rder of node expa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tegies are evaluated along the following dim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completen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oes it always find a solution if one exis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time complex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number of nodes gener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space complex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aximum number of nodes in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optima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oes it always find a least-cost solu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and space complexity are measured in terms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ximum branching factor of the search t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th of the least-cost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aximum depth of the state space (may b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7EE-D23A-43AD-A23F-07790B0842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Uninformed search strategi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inform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arch strategies use only the information available in the problem 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dth-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form-co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h-limited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deepening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FBE-9C46-4E8D-9A24-408246729E4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267440" cy="28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41B-8427-40F0-A9F0-EDAE593E0AD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343400" cy="2800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27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BD39-587C-4260-950A-7D6B010C4A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343400" cy="2855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CB3-693E-445C-B034-6298F57C53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4648320" cy="2789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0F4-870F-4224-84F7-D84454B3A22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-solving agen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4844" t="17709" r="3127" b="22917"/>
          <a:stretch/>
        </p:blipFill>
        <p:spPr>
          <a:xfrm>
            <a:off x="685800" y="167652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E6D-52B5-4BE8-A5BD-74CBE687D8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perties of breadth-first searc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 (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in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+b+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… +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= O(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+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keeps every node in mem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es (if cost = 1 per ste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bigger problem (more than t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77E-ECAC-40BB-BB7F-C0A2B13240A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Uniform-co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least-cost unexpand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queue ordered by path c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breadth-first if step costs all eq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es, if step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≥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 of nodes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st of optimal solution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ceiling(C*/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ε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cost of the optimal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 of nodes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of optimal solution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ceiling(C*/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ε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es – nodes expanded in increasing or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0F5-8A88-481A-A3EC-0A513675F8B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114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8AE-8A47-416B-B7B9-28550538249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894-1ACA-48F3-8860-21DD618708B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2971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55B-02FB-4944-AFFA-61967ECC83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29131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17D-3B55-413C-87E3-1C732C951B8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11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EE2-CCCE-4314-B32D-CE523CB4CF0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D91-D665-4954-8466-0299C87EF0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E91-E3D6-4B65-B0E8-C48509E4ACA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3A8-5AC9-4DCF-A9E7-4B3B16679CA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mania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holiday in Romania; currently in Ar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ight leaves tomorrow from Bucha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Formulate go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in Bucha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Formulate 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various 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rive between 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Find solu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cities, e.g., Arad, Sibiu, Fagaras, Bucha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B18-CD88-4204-8D09-5E245EF297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5B0-C54F-41D9-8B88-4A9CC1BB02E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7A6-0C26-4183-967B-230B303671F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0FD-8712-4641-A034-31CA54D4897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DEF-B4F3-4CE3-A750-764BD94C197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perties of depth-first searc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: fails in infinite-depth spaces, spaces with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o avoid repeated states along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te in finite sp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erribl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much larger th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solutions are dense, may be much faster than breadth-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m)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, linea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8B4-18CD-4619-B58A-380A9F6CE0E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limited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depth-first search with depth lim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, nodes at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no succes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Recursive imple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58203" t="36462" r="7422" b="20835"/>
          <a:stretch/>
        </p:blipFill>
        <p:spPr>
          <a:xfrm>
            <a:off x="914400" y="3124080"/>
            <a:ext cx="670572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BBB-83ED-4A9A-927D-D4E64D14611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14844" t="18753" r="3127" b="51046"/>
          <a:stretch/>
        </p:blipFill>
        <p:spPr>
          <a:xfrm>
            <a:off x="762120" y="1600200"/>
            <a:ext cx="8001000" cy="22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6CD-37C2-4847-BEE9-B7B01608916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0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489-C91B-4A71-A8D7-E0D230414B5B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1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225-5729-418B-9F94-DF11C911E3BD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2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2120" y="1652760"/>
            <a:ext cx="7619760" cy="35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B7B-5233-42BA-AB13-CFF224D8DF55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mania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50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617-B181-42C7-9707-E97FAC3726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3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136-A9BE-4182-BDA3-2E22B410D709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generated in a depth-limited search to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branching fact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DL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=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…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-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generated in an iterative deepening search to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branching fact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d+1)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d b^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(d-1)b^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… + 3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1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= 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 =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D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1 + 10 + 100 + 1,000 + 10,000 + 100,000 = 111,1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 + 50 + 400 + 3,000 + 20,000 + 100,000 = 123,45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 = (123,456 - 111,111)/111,111 = 11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DCA-610E-468C-90FB-30159F9B42C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perties of 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d+1)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d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(d-1)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… +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= 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(b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es, if step cost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E60-FB3B-46F2-B9CF-A0FBEFD9C79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ummary of algorithm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14065" t="22917" r="17970" b="51046"/>
          <a:stretch/>
        </p:blipFill>
        <p:spPr>
          <a:xfrm>
            <a:off x="1143000" y="1676520"/>
            <a:ext cx="662940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5C5-4958-4E83-B6A4-FFFA8B4966C6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peated stat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lure to detect repeated states can turn a linear problem into an exponential on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8229600" cy="301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28D-98E5-4AB1-A704-CB114A6E4AE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ph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14065" t="16666" r="3127" b="35419"/>
          <a:stretch/>
        </p:blipFill>
        <p:spPr>
          <a:xfrm>
            <a:off x="609480" y="1676520"/>
            <a:ext cx="80773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919-8509-46DD-80BD-92C4D83D68D8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formulation usually requires abstracting away real-world details to define a state space that can feasibly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ety of uninformed search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ve deepening search uses only linear space and not much more time than other uninformed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972-4CE3-4878-96F3-8E7F17CBF99F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 typ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Deterministic, fully observ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ngle-stat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 knows exactly which state it will be in; solution is a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Non-observable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nsorless problem (conformant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 may have no idea where it is; solution is a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Nondeterministic and/or partially observ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tingency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s provid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 about current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terlea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 search, exec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Unknown state sp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loration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DEF-3D40-43F5-B907-553D3D0C2F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2433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ingle-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rt in #5.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70440" y="1757520"/>
            <a:ext cx="3925800" cy="32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DDD-889A-403D-8C9C-7B05537D09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ingle-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rt in #5.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 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ensorles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,2,3,4,5,6,7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es to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,4,6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992-86E9-4391-84EE-1C40F200A2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ensorles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,2,3,4,5,6,7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es to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,4,6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Suck,Left,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Conting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deterministic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u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ty a clean carp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ally observable: location, dirt at current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[L, Clean]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.e., start in #5 or #7</a:t>
            </a:r>
            <a:br>
              <a:rPr sz="20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559-F301-4574-8E34-90F8DEA2F1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2:58:58Z</dcterms:created>
  <dc:creator>Min-Yen Kan</dc:creator>
  <dc:description/>
  <dc:language>en-US</dc:language>
  <cp:lastModifiedBy>Min-Yen Kan</cp:lastModifiedBy>
  <dcterms:modified xsi:type="dcterms:W3CDTF">2003-12-22T03:06:45Z</dcterms:modified>
  <cp:revision>5</cp:revision>
  <dc:subject/>
  <dc:title>Solving problems by searching</dc:title>
</cp:coreProperties>
</file>