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AB1-1ED4-4C71-A10E-3641D5AB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7FA-8089-4256-BD6C-BCE712FE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237-1C37-43EC-BFEF-5414BB41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725-D245-41A8-9410-4A419BBE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C52F-5C6A-4C89-9087-FC8BA326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68E5-579C-475B-BA5A-3838BEF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8FDC-F169-40A6-822D-35785F81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DAFE-B574-4724-BDB2-8AF9B3B9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E6A4-10CA-483A-90D3-41EC4471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BFB5-C8B0-44E0-9EAF-B49CFDF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3BB1-6430-4EF9-B68C-13ABCCC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85F-1F50-4F70-B9E6-015FD34A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DCD3-D1EC-4195-AE1E-431B458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C8BC-E32C-4EA6-A3A9-CA9F025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8BF9-DF59-4D5E-8A9E-DA4D1D70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720-FB44-4B37-93F0-679BB289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D66D-BFBC-4FE0-8D27-F513FD46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D1F-248C-47EE-94B1-95E2D456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F94-F011-41AA-A9F9-C0B40592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246-0F65-416F-90DC-FE580613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EE2-B7EE-491C-A873-98EF38B0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ABB-1862-4D3E-B7B8-F49BC8C0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761-2145-43D8-B97A-6E0D589A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919-2524-497E-9EA1-6D916F8B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b44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4c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fdf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f7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b0d27e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03B-1186-42E9-AA4F-7F73EA83AD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fdf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df7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b44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44c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b0d27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C30E-A946-4C52-9D16-6B5D6E2C46CD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F25F-B92E-461F-B703-B3B46A9B46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Real-world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o teaches wha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tabling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ich class is offered when and w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ation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y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ce that many real-world problems involve real-valu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3A3-8505-4504-9A98-4B86CC3C7C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6501"/>
                </a:solidFill>
                <a:latin typeface="Tahoma"/>
              </a:rPr>
              <a:t>Standard search formulation (incremental)</a:t>
            </a:r>
            <a:endParaRPr b="0" lang="en-US" sz="28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's start with the straightforward approach, then fix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s are defined by the values assigned so f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Initial 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empty assignment {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ssign a value to an unassigned variable that does not conflict with current 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 if no legal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current assignment is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same for all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is irrelevant, so can also use complete-state for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= (n -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d at depth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ence n!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88F-5445-444F-A6CD-0050F6B0E2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assignments are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mmut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, i.e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WA = red then NT = green ] same as [ NT = green then WA = red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need to consider assignments to a single variable at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 d and there are $d^n$ le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backtrack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0E6-320D-4798-A824-6242C23DA1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09480" y="1371600"/>
            <a:ext cx="784872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6C2-BCA2-42CC-8285-8918451E13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D32-F966-41FB-BD57-AE44295C4B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D4A-4B94-401E-98C0-A8288D5F0A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BF2-8A47-4946-9A3C-025173EAF8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E40-B8B3-4C2C-B450-DAB6085D41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DB9-A314-4799-82A2-372E61E99F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ed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k.a. </a:t>
            </a:r>
            <a:r>
              <a:rPr b="0" lang="en-US" sz="3200" spc="-1" strike="noStrike">
                <a:solidFill>
                  <a:srgbClr val="b44cad"/>
                </a:solidFill>
                <a:latin typeface="Tahoma"/>
              </a:rPr>
              <a:t>minimum remaining values (MRV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59D-99AC-4A7F-BAAF-6BC61A8A04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 (CS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13C-F733-44C4-8B54-66ABAEC979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ing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620120" cy="12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F1A-DA00-42E3-AFEE-6976D32CF8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east constraining valu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55A-0526-4686-8381-3CCC0E9116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D47-C24A-4DA1-8CC3-CADDDB41C8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6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12E-2AC4-43B2-8580-486FA6857B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933-2274-4527-B943-C022BE28F7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22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99E-CAAF-4146-94BB-D4ABFF13C7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733-94B1-434E-A814-D149C0EDB6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F11-165E-4513-ABCC-9C2DBC72A4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3880" y="28954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099-F85D-4D97-8509-C016FF40A2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64C-F611-4B5E-BCE2-11779DAC96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6501"/>
                </a:solidFill>
                <a:latin typeface="Tahoma"/>
              </a:rPr>
              <a:t>Constraint satisfaction problems (CSPs)</a:t>
            </a:r>
            <a:endParaRPr b="0" lang="en-US" sz="32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"black box“ – any data structure that supports successor function, heuristic function, and goal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example of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rmal representation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usefu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gorithms with more power than standard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FD6-B3D9-4278-9030-B1DD29EDF2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5CD-9D60-4907-A353-DC3299AB35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5559480"/>
            <a:ext cx="86500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B30-5A04-43EF-AB93-F389F515AF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states with unsatisfi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selection: randomly select any conflicted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selection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, hill-climb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C11-4D10-4D08-A3A8-74CC32927A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random initial state, 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in almost constant time for arbitra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high probability (e.g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,000,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9132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3EF-9260-4521-9CF2-182B0A3CC7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E2E-0CC8-46D8-BBB0-7C349B9029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416196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T, or (WA,NT) in {(red,green),(red,blue),(green,red), (green,blue),(blue,red),(blue,green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A0C-45DB-48FA-A3E1-A816B0D361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Q = red,NSW = green,V = red,SA = blue,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3DE-E99B-40AD-8135-BE4B6551B9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76680" cy="31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AA2-EF11-45A1-AAB8-6181AF76C8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~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7BE-0E8B-4206-9DD3-73F876D98D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F21-1F93-4159-B617-F00D1B878E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Cryptarithmetic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95880" cy="221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3076200"/>
            <a:ext cx="8570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F T U W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O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0,1,2,3,4,5,6,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diff (F,T,U,W,R,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O = R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W + W = U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T + 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89B-9C1B-4ECD-9D51-E08D17FDD1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5:14:46Z</dcterms:created>
  <dc:creator>Min-Yen Kan</dc:creator>
  <dc:description/>
  <dc:language>en-US</dc:language>
  <cp:lastModifiedBy>Min-Yen Kan</cp:lastModifiedBy>
  <dcterms:modified xsi:type="dcterms:W3CDTF">2003-12-22T03:38:57Z</dcterms:modified>
  <cp:revision>5</cp:revision>
  <dc:subject/>
  <dc:title>Constraint Satisfaction Problems</dc:title>
</cp:coreProperties>
</file>