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975-68B6-4DDF-B695-A9E6E1C8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BD5-05BE-4B83-A500-CE11846F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290-4AC9-4DE8-BECE-7C865072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C7F-4E1B-4B94-9FC2-3E5DA8AB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FD2-AA3D-43E4-BEF6-6439469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698-6FFA-498D-9F4E-F196A09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E55-4DFB-4BC0-8D87-31CF977E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CC3-0B70-4508-AD4C-24C49E09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4AD-4B22-4735-8E03-2D094652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BC9-D2D5-4845-960C-947336A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965-3007-496C-947A-85CCA88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3B5-5657-44CE-9C2B-BE34D28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6467-7D51-45C7-A60A-EF5AB121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conditional independence is hard in noncausal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al models and conditional independence seem hardwired for human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less compact: 1 + 2 + 4 + 2 + 4 = 13 number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743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networks provide a natural representation for (causally induced) conditiona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+ CPTs = compact representation of joi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easy for domain experts to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, graphical notation for conditional independence assertions and hence for compact specification of full 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nodes, one per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ed, acyclic graph (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rectly influenc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tional distribution for each node given its par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arents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implest case, conditional distribution represented a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ditional probability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PT) giving the distribution o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combination of par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of network encodes conditional independence asser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nditionally independent 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419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'm at work, neighbor John calls to say my alarm is ringing, but neighbor Mary doesn't call. Sometimes it's set off by minor earthquakes. Is there a burg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g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hn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y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opology reflects "causal" knowl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rglar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thquake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Mary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John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c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PT for Bool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olean parents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ws for the combinations of par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requires one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number for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ju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variable has no more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ents, the complete network requir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n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rows linearl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s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2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ull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urglary net, 1 + 1 + 4 + 2 + 2 = 10 numbers (vs.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= 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209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ll joint distribution is defined as the product of the local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 |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209600" cy="120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98680" y="2209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oose an ordering of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ents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Parents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, ...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oice of parents guarant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constr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in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7960" y="373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7960" y="411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6:38:09Z</dcterms:created>
  <dc:creator>Min-Yen Kan</dc:creator>
  <dc:description/>
  <dc:language>en-US</dc:language>
  <cp:lastModifiedBy>Min-Yen Kan</cp:lastModifiedBy>
  <dcterms:modified xsi:type="dcterms:W3CDTF">2003-12-18T03:06:00Z</dcterms:modified>
  <cp:revision>4</cp:revision>
  <dc:subject/>
  <dc:title>Bayesian networks </dc:title>
</cp:coreProperties>
</file>