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66A-71A8-4471-8C4E-D1AB1E6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68E-0632-4B54-9833-ABCBAF7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6BA-BB7B-4293-90FF-A1E78369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854-B7BF-4F48-B364-0BDCAC84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C2E-C172-44F9-8C7B-813A271D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165-29BA-4743-8FD0-6BFD4D6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511-7F32-4B0D-A334-6B0AA79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424-DA58-4BA9-BE0A-5F42BF0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B22-4039-4F95-A1CC-5922B2F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5F2-66E6-4E27-825D-A5B659C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7B3-B468-4A92-B6D0-5B7C042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B3C-A288-4C6C-95FB-87CD88DB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6973-5305-45D3-AA85-49C3C1CE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sarial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α-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fect fin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ve ordering improves effectiveness of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"perfect ordering," time complexity 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u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th of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example of the value of reasoning about which computations are relevant (a form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a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called α-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 is the value of the best (i.e., highest-value) choice found so far at any choice point along the path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orse than α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voi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e that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β similarly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6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6405" t="25004" r="15626" b="15627"/>
          <a:stretch/>
        </p:blipFill>
        <p:spPr>
          <a:xfrm>
            <a:off x="685800" y="1295280"/>
            <a:ext cx="76201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5626" t="25004" r="15626" b="33337"/>
          <a:stretch/>
        </p:blipFill>
        <p:spPr>
          <a:xfrm>
            <a:off x="685800" y="1523880"/>
            <a:ext cx="7772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have 100 secs, explor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des/se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per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toff te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epth limit (perhaps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iescence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ion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stimated desirability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typic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ighted sum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…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= (number of white queens) –  (number of black queen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ing off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Cut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dentic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in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work in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=3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ply lookahead is a hopeless chess play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ical PC, human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ep Blue,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-β pr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fect, real-tim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stic game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ers: Chinook ended 40-year-reign of human world champion Marion Tinsley in 1994. Used a precomputed endgame database defining perfect play for all positions involving 8 or fewer pieces on the board, a total of 444 billion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ss: Deep Blue defeated human world champion Garry Kasparov in a six-game match in 1997. Deep Blue searches 200 million positions per second, uses very sophisticated evaluation, and undisclosed methods for extending some lines of search up to 40 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llo: human champions refuse to compete against computers, who are too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: human champions refuse to compete against computers, who are too bad. In go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&gt; 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most programs use pattern knowledge bases to suggest plausible mo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re fun to work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illustrate several important points about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ion is unattainab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 to think about what to thin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s vs. search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Unpredictable" oppon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ying a move for every possible opponent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mi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ikely to find goal,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ree (2-player, deterministic, tur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play for deterministic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choose move to position with high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ax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est achievable payoff against bes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2-ply g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705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914400" y="1371600"/>
            <a:ext cx="71629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if tree is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against an optimal op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Tim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Spac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m) (depth-first expl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5,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for "reasonable" g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ct solution completely in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6:37:42Z</dcterms:created>
  <dc:creator>Min-Yen Kan</dc:creator>
  <dc:description/>
  <dc:language>en-US</dc:language>
  <cp:lastModifiedBy>Min-Yen Kan</cp:lastModifiedBy>
  <dcterms:modified xsi:type="dcterms:W3CDTF">2003-12-17T06:56:02Z</dcterms:modified>
  <cp:revision>3</cp:revision>
  <dc:subject/>
  <dc:title>Adversarial Search</dc:title>
</cp:coreProperties>
</file>